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F30-7C38-4DE8-A2A5-093D555E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8FB-6B96-4F14-810F-CE3F5944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338-A84F-47E0-B5F2-D3BF811E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861-B75E-40C2-8A92-70E7181A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DDB2-60AD-49F7-A73C-2999CFE1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E24B-8DB7-4ED6-9D32-98EA3903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E245-ADF9-48EB-9847-C4F94DB2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4AF5-215A-406E-AC4A-283716F6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5E80-6476-47E3-99A8-C6A096D7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C7E4-124B-4450-8D86-5363EE0E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3F3A-F1DC-45CB-BD45-C81A8973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AF8-F75D-47CF-B60E-55C6A459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9BDC-4957-4E66-91A1-43A373C1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990C-C378-4E0E-B6D5-DBF6BFA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78D8-2933-475C-A0BF-67597CE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19A6-06DC-4FA4-97F4-4ECD9904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A661-3CFD-44D5-9DDC-36676A45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594-FCAA-43DC-A30D-E3D06272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0F9-2CB8-468B-9A47-840CC46A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66D-D0B8-40B9-A955-6499D396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0BC-4136-4E03-8146-23949606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59F-FFFD-41ED-B9CA-1D53BFB6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11E-1063-4266-8690-C5B0371A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C57-91F1-4097-A2D1-297A973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5388-ECC2-4B9E-BFE2-0133E7B18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FDD1-DEFD-484B-9E97-26964D887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96132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Работу выполнил ученик 9 класса Тукмачев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Руководитель Шулепова Наталья Фёдо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филиала МОУ СОШ с. Шестаково ООШ с. Лек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Сколько граммов сахарного сиропа, концентрация которого 25%, надо добавить к 200 г воды, чтобы в полученном растворе содержание сахара  составляло 5%?</a:t>
            </a:r>
            <a:br>
              <a:rPr sz="38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1556280"/>
            <a:ext cx="69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0,25 х (г) - сахара в первом раств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0,75 х (г) -воды в первом раств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(х + 200) * 0,95 (г) - воды во втором раство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0,75 х + 200 = (х + 200) * 0,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0,75х+200=0,95х+1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10 - 0,2 х = 0;х=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ffff00"/>
                </a:solidFill>
                <a:latin typeface="Comic Sans MS"/>
              </a:rPr>
              <a:t>Штраф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cc"/>
                </a:solidFill>
                <a:latin typeface="Comic Sans MS"/>
              </a:rPr>
              <a:t>Задача</a:t>
            </a:r>
            <a:r>
              <a:rPr b="0" lang="en-US" sz="2400" spc="-1" strike="noStrike">
                <a:solidFill>
                  <a:srgbClr val="6666cc"/>
                </a:solidFill>
                <a:latin typeface="Comic Sans MS"/>
              </a:rPr>
              <a:t>. Занятия ребенка в художественной школе родители оплачивают в сбербанке, внося ежемесячно 300 р. Оплата должна производиться до 20 числа каждого месяца, после чего начисляется пеня в размере 4% от суммы оплаты занятий за один месяц. Сколько придется заплатить родителям, если они просрочат оплату на нед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cc"/>
                </a:solidFill>
                <a:latin typeface="Comic Sans MS"/>
              </a:rPr>
              <a:t>Решение.</a:t>
            </a:r>
            <a:r>
              <a:rPr b="0" lang="en-US" sz="2400" spc="-1" strike="noStrike">
                <a:solidFill>
                  <a:srgbClr val="6666cc"/>
                </a:solidFill>
                <a:latin typeface="Comic Sans MS"/>
              </a:rPr>
              <a:t> 300:100*4=12(р.) – сумма оплаты за каждый просроченный день.300+12*7=384(р.) –заплатят родители, если просрочат оплату на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cc"/>
                </a:solidFill>
                <a:latin typeface="Comic Sans MS"/>
              </a:rPr>
              <a:t>Ответ</a:t>
            </a:r>
            <a:r>
              <a:rPr b="0" lang="en-US" sz="2400" spc="-1" strike="noStrike">
                <a:solidFill>
                  <a:srgbClr val="6666cc"/>
                </a:solidFill>
                <a:latin typeface="Comic Sans MS"/>
              </a:rPr>
              <a:t>:       </a:t>
            </a:r>
            <a:r>
              <a:rPr b="0" lang="en-US" sz="2400" spc="-1" strike="noStrike" u="sng">
                <a:solidFill>
                  <a:srgbClr val="6666cc"/>
                </a:solidFill>
                <a:uFillTx/>
                <a:latin typeface="Comic Sans MS"/>
              </a:rPr>
              <a:t>384 рублей</a:t>
            </a:r>
            <a:r>
              <a:rPr b="0" lang="en-US" sz="2400" spc="-1" strike="noStrike">
                <a:solidFill>
                  <a:srgbClr val="6666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59640" y="0"/>
            <a:ext cx="1404720" cy="148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Comic Sans MS"/>
              </a:rPr>
              <a:t>Банковские операц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7786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cc"/>
                </a:solidFill>
                <a:latin typeface="Comic Sans MS"/>
              </a:rPr>
              <a:t>Задача</a:t>
            </a:r>
            <a:r>
              <a:rPr b="1" lang="en-US" sz="2000" spc="-1" strike="noStrike">
                <a:solidFill>
                  <a:srgbClr val="6666cc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За хранение денег сбербанк начисляет вклад 8% годовых. Вкладчик положил на счёт в банке 5000 рублей и решил в течение 5 лет не снимать деньги со счёта и не брать процентные вычисления. Сколько денег будет на счёте вкладчика через год, через 2 года, через 5 л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cc"/>
                </a:solidFill>
                <a:latin typeface="Comic Sans MS"/>
              </a:rPr>
              <a:t>Решение.</a:t>
            </a: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6666cc"/>
                </a:solidFill>
                <a:uFillTx/>
                <a:latin typeface="Comic Sans MS"/>
              </a:rPr>
              <a:t>1 способ</a:t>
            </a: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. 5000*100*8=400(руб.) – составляют 8% от 5000 руб., 5000+400=5400(руб.) – окажется на счёте через год, 5400:100*8=432(р.) – проценты во 2 год, 5400+432=5832(р.) – на счету вкладчика через 2 года. Вычисляя последовательно, найдём, что через 5 лет на счёте вкладчика будет7346 р. 64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cc"/>
                </a:solidFill>
                <a:uFillTx/>
                <a:latin typeface="Comic Sans MS"/>
              </a:rPr>
              <a:t>2 способ</a:t>
            </a: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. 5000*1068=5400(р.) – через год. 5000*1,08*1,08=5832(р.) – через 2 года. Вклад растёт в геометрической прогрессии 5000*1,08</a:t>
            </a:r>
            <a:r>
              <a:rPr b="0" lang="en-US" sz="2000" spc="-1" strike="noStrike" baseline="30000">
                <a:solidFill>
                  <a:srgbClr val="6666cc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=7346,64(р</a:t>
            </a:r>
            <a:r>
              <a:rPr b="0" lang="en-US" sz="2000" spc="-1" strike="noStrike">
                <a:solidFill>
                  <a:srgbClr val="6666cc"/>
                </a:solidFill>
                <a:latin typeface="Arial"/>
              </a:rPr>
              <a:t>.) – на счёте вкладчика через 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016360" cy="11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omic Sans MS"/>
              </a:rPr>
              <a:t>Социологический опрос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Comic Sans MS"/>
              </a:rPr>
              <a:t>Незадолго до выборов социологический опрос показа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Comic Sans MS"/>
              </a:rPr>
              <a:t>что 60% избирателей уже решили, за кого из двух кандидатов они будут голос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Comic Sans MS"/>
              </a:rPr>
              <a:t>При этом 55% из них решили голосовать за кандидата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Comic Sans MS"/>
              </a:rPr>
              <a:t>Какой процент из тех, кто ещё не определил своего избранн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cc"/>
                </a:solidFill>
                <a:latin typeface="Comic Sans MS"/>
              </a:rPr>
              <a:t>должен голосовать за кандидата 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Comic Sans MS"/>
              </a:rPr>
              <a:t>чтобы за него проголосовала по крайней мере половина избирате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30"/>
          <p:cNvSpPr/>
          <p:nvPr/>
        </p:nvSpPr>
        <p:spPr>
          <a:xfrm>
            <a:off x="0" y="3645000"/>
            <a:ext cx="971640" cy="107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5564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акое из утверждений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е верно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1042920" y="2421000"/>
            <a:ext cx="7129440" cy="936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ожая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ень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этого урож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2"/>
              <p:cNvSpPr txBox="1"/>
              <p:nvPr/>
            </p:nvSpPr>
            <p:spPr>
              <a:xfrm>
                <a:off x="1547640" y="2421000"/>
                <a:ext cx="3826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" name="Group 24"/>
          <p:cNvGrpSpPr/>
          <p:nvPr/>
        </p:nvGrpSpPr>
        <p:grpSpPr>
          <a:xfrm>
            <a:off x="0" y="981000"/>
            <a:ext cx="8172360" cy="1008000"/>
            <a:chOff x="0" y="981000"/>
            <a:chExt cx="8172360" cy="1008000"/>
          </a:xfrm>
        </p:grpSpPr>
        <p:sp>
          <p:nvSpPr>
            <p:cNvPr id="97" name="AutoShape 5"/>
            <p:cNvSpPr/>
            <p:nvPr/>
          </p:nvSpPr>
          <p:spPr>
            <a:xfrm>
              <a:off x="1042920" y="1052640"/>
              <a:ext cx="7129440" cy="9363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урожая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меньше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Arial"/>
                </a:rPr>
                <a:t>20%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этого урожая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7"/>
                <p:cNvSpPr txBox="1"/>
                <p:nvPr/>
              </p:nvSpPr>
              <p:spPr>
                <a:xfrm>
                  <a:off x="1332000" y="981000"/>
                  <a:ext cx="57456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9" name="AutoShape 15"/>
            <p:cNvSpPr/>
            <p:nvPr/>
          </p:nvSpPr>
          <p:spPr>
            <a:xfrm>
              <a:off x="0" y="98100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AutoShape 16"/>
          <p:cNvSpPr/>
          <p:nvPr/>
        </p:nvSpPr>
        <p:spPr>
          <a:xfrm>
            <a:off x="0" y="2349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5"/>
          <p:cNvGrpSpPr/>
          <p:nvPr/>
        </p:nvGrpSpPr>
        <p:grpSpPr>
          <a:xfrm>
            <a:off x="0" y="3716280"/>
            <a:ext cx="8172360" cy="1009800"/>
            <a:chOff x="0" y="3716280"/>
            <a:chExt cx="8172360" cy="1009800"/>
          </a:xfrm>
        </p:grpSpPr>
        <p:sp>
          <p:nvSpPr>
            <p:cNvPr id="102" name="AutoShape 10"/>
            <p:cNvSpPr/>
            <p:nvPr/>
          </p:nvSpPr>
          <p:spPr>
            <a:xfrm>
              <a:off x="1042920" y="3789360"/>
              <a:ext cx="7129440" cy="936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урожая </a:t>
              </a:r>
              <a:r>
                <a:rPr b="0" lang="ru-RU" sz="2800" spc="-1" strike="noStrike">
                  <a:solidFill>
                    <a:srgbClr val="ff0000"/>
                  </a:solidFill>
                  <a:latin typeface="Arial"/>
                </a:rPr>
                <a:t>меньше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r>
                <a:rPr b="0" lang="ru-RU" sz="2800" spc="-1" strike="noStrike">
                  <a:solidFill>
                    <a:srgbClr val="3333ff"/>
                  </a:solidFill>
                  <a:latin typeface="Arial"/>
                </a:rPr>
                <a:t>%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этого урожая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Object 13"/>
                <p:cNvSpPr txBox="1"/>
                <p:nvPr/>
              </p:nvSpPr>
              <p:spPr>
                <a:xfrm>
                  <a:off x="1547640" y="3716280"/>
                  <a:ext cx="35100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AutoShape 17"/>
            <p:cNvSpPr/>
            <p:nvPr/>
          </p:nvSpPr>
          <p:spPr>
            <a:xfrm>
              <a:off x="0" y="3716280"/>
              <a:ext cx="914400" cy="914400"/>
            </a:xfrm>
            <a:custGeom>
              <a:avLst/>
              <a:gdLst>
                <a:gd name="textAreaLeft" fmla="*/ 386640 w 914400"/>
                <a:gd name="textAreaRight" fmla="*/ 527760 w 914400"/>
                <a:gd name="textAreaTop" fmla="*/ 386640 h 914400"/>
                <a:gd name="textAreaBottom" fmla="*/ 527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38" y="9138"/>
                  </a:lnTo>
                  <a:lnTo>
                    <a:pt x="10800" y="0"/>
                  </a:lnTo>
                  <a:lnTo>
                    <a:pt x="12462" y="9138"/>
                  </a:lnTo>
                  <a:lnTo>
                    <a:pt x="21600" y="10800"/>
                  </a:lnTo>
                  <a:lnTo>
                    <a:pt x="12462" y="12462"/>
                  </a:lnTo>
                  <a:lnTo>
                    <a:pt x="10800" y="21600"/>
                  </a:lnTo>
                  <a:lnTo>
                    <a:pt x="9138" y="1246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0" y="5300640"/>
            <a:ext cx="8172360" cy="1009800"/>
            <a:chOff x="0" y="5300640"/>
            <a:chExt cx="8172360" cy="1009800"/>
          </a:xfrm>
        </p:grpSpPr>
        <p:sp>
          <p:nvSpPr>
            <p:cNvPr id="106" name="AutoShape 11"/>
            <p:cNvSpPr/>
            <p:nvPr/>
          </p:nvSpPr>
          <p:spPr>
            <a:xfrm>
              <a:off x="1042920" y="5373720"/>
              <a:ext cx="7129440" cy="936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урожая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меньше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3333ff"/>
                  </a:solidFill>
                  <a:latin typeface="Arial"/>
                </a:rPr>
                <a:t>40%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этого урожая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14"/>
                <p:cNvSpPr txBox="1"/>
                <p:nvPr/>
              </p:nvSpPr>
              <p:spPr>
                <a:xfrm>
                  <a:off x="1476360" y="5300640"/>
                  <a:ext cx="38268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AutoShape 18"/>
            <p:cNvSpPr/>
            <p:nvPr/>
          </p:nvSpPr>
          <p:spPr>
            <a:xfrm>
              <a:off x="0" y="537372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Распродаж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200" y="1839600"/>
            <a:ext cx="635796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cc"/>
                </a:solidFill>
                <a:latin typeface="Arial"/>
              </a:rPr>
              <a:t>Задача.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66cc"/>
                </a:solidFill>
                <a:latin typeface="Arial"/>
              </a:rPr>
              <a:t>Зонт стоил 360 рублей. В ноябре цена зонта была снижена на 15%, а в декабре – ещё на 10%. Какой стала стоимость зонта в дека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cc"/>
                </a:solidFill>
                <a:latin typeface="Arial"/>
              </a:rPr>
              <a:t>Решение.  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66cc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 100-15=85% от 360 р., т. е. 360:100*85=306(р.) – стоимость зонта в нояб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              </a:t>
            </a:r>
            <a:r>
              <a:rPr b="0" i="1" lang="en-US" sz="2400" spc="-1" strike="noStrike">
                <a:solidFill>
                  <a:srgbClr val="6666cc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 100-10=90% от 306 р., т. е. 306:100*90=275,4(р.) – стоимость зонта в дека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cc"/>
                </a:solidFill>
                <a:latin typeface="Arial"/>
              </a:rPr>
              <a:t>Ответ</a:t>
            </a: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:       </a:t>
            </a:r>
            <a:r>
              <a:rPr b="0" lang="en-US" sz="2400" spc="-1" strike="noStrike" u="sng">
                <a:solidFill>
                  <a:srgbClr val="6666cc"/>
                </a:solidFill>
                <a:uFillTx/>
                <a:latin typeface="Arial"/>
              </a:rPr>
              <a:t>275руб. 40 к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19609800">
            <a:off x="7380000" y="206028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4067280" y="357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543564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133200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716436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41964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250920" y="4941720"/>
            <a:ext cx="2592360" cy="792360"/>
          </a:xfrm>
          <a:prstGeom prst="wedgeEllipseCallout">
            <a:avLst>
              <a:gd name="adj1" fmla="val 3092"/>
              <a:gd name="adj2" fmla="val 10310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2627280" y="4941720"/>
            <a:ext cx="2376360" cy="863640"/>
          </a:xfrm>
          <a:prstGeom prst="wedgeEllipseCallout">
            <a:avLst>
              <a:gd name="adj1" fmla="val -2907"/>
              <a:gd name="adj2" fmla="val 93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7164360" y="4941720"/>
            <a:ext cx="2232000" cy="863640"/>
          </a:xfrm>
          <a:prstGeom prst="wedgeEllipseCallout">
            <a:avLst>
              <a:gd name="adj1" fmla="val -34921"/>
              <a:gd name="adj2" fmla="val 9209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4932360" y="4653000"/>
            <a:ext cx="2376360" cy="1009440"/>
          </a:xfrm>
          <a:prstGeom prst="wedgeEllipseCallout">
            <a:avLst>
              <a:gd name="adj1" fmla="val -16134"/>
              <a:gd name="adj2" fmla="val 10235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0" y="0"/>
            <a:ext cx="849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При покупке стиральной машины стоимость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6500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покупатель предъявил купон, дающий прав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5% скидк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Сколько он заплатил за машин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1332000" y="1773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6"/>
          <p:cNvSpPr/>
          <p:nvPr/>
        </p:nvSpPr>
        <p:spPr>
          <a:xfrm>
            <a:off x="179280" y="1557360"/>
            <a:ext cx="2932200" cy="148896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) 325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7"/>
          <p:cNvSpPr/>
          <p:nvPr/>
        </p:nvSpPr>
        <p:spPr>
          <a:xfrm flipH="1">
            <a:off x="6371640" y="1484280"/>
            <a:ext cx="2771640" cy="149076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) 6175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9"/>
          <p:cNvSpPr/>
          <p:nvPr/>
        </p:nvSpPr>
        <p:spPr>
          <a:xfrm flipV="1">
            <a:off x="1332000" y="2923560"/>
            <a:ext cx="2427120" cy="177804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) 325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0"/>
          <p:cNvSpPr/>
          <p:nvPr/>
        </p:nvSpPr>
        <p:spPr>
          <a:xfrm flipH="1" flipV="1">
            <a:off x="5579280" y="2851920"/>
            <a:ext cx="2427480" cy="170676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) 6495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492360" y="1773360"/>
            <a:ext cx="2291040" cy="206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4"/>
          <p:cNvSpPr/>
          <p:nvPr/>
        </p:nvSpPr>
        <p:spPr>
          <a:xfrm>
            <a:off x="709308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47636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21964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34800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3924360" y="4365720"/>
            <a:ext cx="3311640" cy="718920"/>
          </a:xfrm>
          <a:prstGeom prst="wedgeEllipseCallout">
            <a:avLst>
              <a:gd name="adj1" fmla="val -1152"/>
              <a:gd name="adj2" fmla="val 19790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6732720" y="4797360"/>
            <a:ext cx="2232000" cy="1081080"/>
          </a:xfrm>
          <a:prstGeom prst="wedgeEllipseCallout">
            <a:avLst>
              <a:gd name="adj1" fmla="val -18634"/>
              <a:gd name="adj2" fmla="val 752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0" y="4076640"/>
            <a:ext cx="2160720" cy="576360"/>
          </a:xfrm>
          <a:prstGeom prst="wedgeEllipseCallout">
            <a:avLst>
              <a:gd name="adj1" fmla="val 32587"/>
              <a:gd name="adj2" fmla="val 30481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2124000" y="4581360"/>
            <a:ext cx="2448000" cy="1081080"/>
          </a:xfrm>
          <a:prstGeom prst="wedgeEllipseCallout">
            <a:avLst>
              <a:gd name="adj1" fmla="val 10504"/>
              <a:gd name="adj2" fmla="val 999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179280" y="0"/>
            <a:ext cx="8713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После уценки телевизора его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нова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цена составила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0,8 старо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Сколько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процентов от старо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цены составляет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новая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0"/>
          <p:cNvSpPr/>
          <p:nvPr/>
        </p:nvSpPr>
        <p:spPr>
          <a:xfrm>
            <a:off x="611280" y="1557360"/>
            <a:ext cx="1944720" cy="1346040"/>
          </a:xfrm>
          <a:custGeom>
            <a:avLst/>
            <a:gdLst>
              <a:gd name="textAreaLeft" fmla="*/ 443880 w 1944720"/>
              <a:gd name="textAreaRight" fmla="*/ 1500840 w 194472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) 0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1"/>
          <p:cNvSpPr/>
          <p:nvPr/>
        </p:nvSpPr>
        <p:spPr>
          <a:xfrm>
            <a:off x="1619280" y="2781360"/>
            <a:ext cx="2089080" cy="134604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)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2"/>
          <p:cNvSpPr/>
          <p:nvPr/>
        </p:nvSpPr>
        <p:spPr>
          <a:xfrm>
            <a:off x="7164360" y="1484280"/>
            <a:ext cx="1655640" cy="1346400"/>
          </a:xfrm>
          <a:custGeom>
            <a:avLst/>
            <a:gdLst>
              <a:gd name="textAreaLeft" fmla="*/ 378000 w 1655640"/>
              <a:gd name="textAreaRight" fmla="*/ 1277640 w 1655640"/>
              <a:gd name="textAreaTop" fmla="*/ 307440 h 1346400"/>
              <a:gd name="textAreaBottom" fmla="*/ 103896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)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5940360" y="2781360"/>
            <a:ext cx="1800360" cy="134604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307080 h 1346040"/>
              <a:gd name="textAreaBottom" fmla="*/ 1038960 h 134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) 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780000" y="2046240"/>
            <a:ext cx="2049480" cy="163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4044960" y="620640"/>
            <a:ext cx="131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692360" y="609300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5580000" y="609300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609300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308720" y="609300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4643280" y="4581360"/>
            <a:ext cx="2160720" cy="576360"/>
          </a:xfrm>
          <a:prstGeom prst="wedgeEllipseCallout">
            <a:avLst>
              <a:gd name="adj1" fmla="val -6574"/>
              <a:gd name="adj2" fmla="val 2282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79280" y="4508640"/>
            <a:ext cx="1944720" cy="720720"/>
          </a:xfrm>
          <a:prstGeom prst="wedgeEllipseCallout">
            <a:avLst>
              <a:gd name="adj1" fmla="val 27958"/>
              <a:gd name="adj2" fmla="val 16762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2411280" y="4508640"/>
            <a:ext cx="2160720" cy="576000"/>
          </a:xfrm>
          <a:prstGeom prst="wedgeEllipseCallout">
            <a:avLst>
              <a:gd name="adj1" fmla="val -2828"/>
              <a:gd name="adj2" fmla="val 2287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6732720" y="4365720"/>
            <a:ext cx="2232000" cy="574560"/>
          </a:xfrm>
          <a:prstGeom prst="wedgeEllipseCallout">
            <a:avLst>
              <a:gd name="adj1" fmla="val -23259"/>
              <a:gd name="adj2" fmla="val 25607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0"/>
            <a:ext cx="8820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Костюм для снегурочки стоит 2000р. Во время  весенних скидок      цену костюма снизили на 20%. В декабре цену на костюм повысили    на 20%. Какой стала цена после  этих двух измен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3419640" y="2997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1"/>
          <p:cNvSpPr/>
          <p:nvPr/>
        </p:nvSpPr>
        <p:spPr>
          <a:xfrm>
            <a:off x="6443640" y="1844640"/>
            <a:ext cx="1800360" cy="576360"/>
          </a:xfrm>
          <a:prstGeom prst="wedgeRoundRectCallout">
            <a:avLst>
              <a:gd name="adj1" fmla="val -91888"/>
              <a:gd name="adj2" fmla="val 40083"/>
              <a:gd name="adj3" fmla="val 16667"/>
            </a:avLst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3) 2080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2"/>
          <p:cNvSpPr/>
          <p:nvPr/>
        </p:nvSpPr>
        <p:spPr>
          <a:xfrm flipH="1">
            <a:off x="2410560" y="2060640"/>
            <a:ext cx="1800360" cy="576360"/>
          </a:xfrm>
          <a:prstGeom prst="wedgeRoundRectCallout">
            <a:avLst>
              <a:gd name="adj1" fmla="val -84657"/>
              <a:gd name="adj2" fmla="val -53583"/>
              <a:gd name="adj3" fmla="val 16667"/>
            </a:avLst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) 1920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3"/>
          <p:cNvSpPr/>
          <p:nvPr/>
        </p:nvSpPr>
        <p:spPr>
          <a:xfrm>
            <a:off x="6659640" y="3141720"/>
            <a:ext cx="1800000" cy="574560"/>
          </a:xfrm>
          <a:prstGeom prst="wedgeRoundRectCallout">
            <a:avLst>
              <a:gd name="adj1" fmla="val -106347"/>
              <a:gd name="adj2" fmla="val -43370"/>
              <a:gd name="adj3" fmla="val 16667"/>
            </a:avLst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) 2100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4"/>
          <p:cNvSpPr/>
          <p:nvPr/>
        </p:nvSpPr>
        <p:spPr>
          <a:xfrm flipH="1">
            <a:off x="2483640" y="3284640"/>
            <a:ext cx="1800360" cy="576000"/>
          </a:xfrm>
          <a:prstGeom prst="wedgeRoundRectCallout">
            <a:avLst>
              <a:gd name="adj1" fmla="val -83777"/>
              <a:gd name="adj2" fmla="val 14185"/>
              <a:gd name="adj3" fmla="val 16667"/>
            </a:avLst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) 2000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716360" y="1125360"/>
            <a:ext cx="134172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709308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47636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21964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3924360" y="4365720"/>
            <a:ext cx="3311640" cy="718920"/>
          </a:xfrm>
          <a:prstGeom prst="wedgeEllipseCallout">
            <a:avLst>
              <a:gd name="adj1" fmla="val -1152"/>
              <a:gd name="adj2" fmla="val 19790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6732720" y="4797360"/>
            <a:ext cx="2232000" cy="1081080"/>
          </a:xfrm>
          <a:prstGeom prst="wedgeEllipseCallout">
            <a:avLst>
              <a:gd name="adj1" fmla="val -18634"/>
              <a:gd name="adj2" fmla="val 752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>
            <a:off x="179280" y="4076640"/>
            <a:ext cx="2160720" cy="576360"/>
          </a:xfrm>
          <a:prstGeom prst="wedgeEllipseCallout">
            <a:avLst>
              <a:gd name="adj1" fmla="val 32587"/>
              <a:gd name="adj2" fmla="val 30481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2124000" y="4581360"/>
            <a:ext cx="2448000" cy="1081080"/>
          </a:xfrm>
          <a:prstGeom prst="wedgeEllipseCallout">
            <a:avLst>
              <a:gd name="adj1" fmla="val 10504"/>
              <a:gd name="adj2" fmla="val 999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179280" y="287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0" y="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Некоторый товар поступил в продажу по ц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0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В соответствии с принятыми в магазине правилами цена непроданного тов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каждую неделю сниж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а 1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коль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будет стоить това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а 12-й ден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если не будет купл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179280" y="1989000"/>
            <a:ext cx="1994040" cy="17780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1) 6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9"/>
          <p:cNvSpPr/>
          <p:nvPr/>
        </p:nvSpPr>
        <p:spPr>
          <a:xfrm>
            <a:off x="2340000" y="2492280"/>
            <a:ext cx="1994040" cy="17798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2) 48,5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0"/>
          <p:cNvSpPr/>
          <p:nvPr/>
        </p:nvSpPr>
        <p:spPr>
          <a:xfrm>
            <a:off x="4643280" y="2492280"/>
            <a:ext cx="1994040" cy="14414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3) 50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1"/>
          <p:cNvSpPr/>
          <p:nvPr/>
        </p:nvSpPr>
        <p:spPr>
          <a:xfrm>
            <a:off x="6877080" y="2781360"/>
            <a:ext cx="1994040" cy="149076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4) 54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002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Comic Sans MS"/>
              </a:rPr>
              <a:t>Масса арбуз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Как изменилась масса арбуза? Влажность купленного арбуза составила 99%. В результате длительного хранения влажность снизилась до 98%.</a:t>
            </a:r>
            <a:br>
              <a:rPr sz="2000"/>
            </a:b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Как изменилась масса арбуза? </a:t>
            </a:r>
            <a:br>
              <a:rPr sz="2000"/>
            </a:b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cc"/>
                </a:solidFill>
                <a:latin typeface="Comic Sans MS"/>
              </a:rPr>
              <a:t>Решение</a:t>
            </a: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. Свежий арбуз на 99% процентов состоит из жидкости и на 1% - из сухой массы. В результате усушки количество жидкости уменьшилось и составило 98% от новой, также уменьшившейся массы арбуза. Количество же сухого вещества, оставаясь неизменным, составило 2% от новой массы арбуза. Процентное содержание в арбузе сухого вещества (при неизменной его массе) увеличилось вдв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cc"/>
                </a:solidFill>
                <a:latin typeface="Comic Sans MS"/>
              </a:rPr>
              <a:t>Ответ:  </a:t>
            </a:r>
            <a:r>
              <a:rPr b="0" lang="en-US" sz="2000" spc="-1" strike="noStrike">
                <a:solidFill>
                  <a:srgbClr val="6666cc"/>
                </a:solidFill>
                <a:latin typeface="Comic Sans MS"/>
              </a:rPr>
              <a:t>масса арбуза в результате усушки уменьшилась вд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708360" y="5373720"/>
            <a:ext cx="1436760" cy="148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Comic Sans MS"/>
              </a:rPr>
              <a:t>Водоснабж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Плата за водоснабжение                  составляет 245 р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Сколько придется платить за водоснабжение  после его подорожания на 6%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4e0cf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4,7 р.</a:t>
            </a:r>
            <a:r>
              <a:rPr b="1" lang="en-US" sz="3200" spc="-1" strike="noStrike">
                <a:solidFill>
                  <a:srgbClr val="4e0cf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1" lang="en-US" sz="3200" spc="-1" strike="noStrike">
                <a:solidFill>
                  <a:srgbClr val="4e0cf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40 р.</a:t>
            </a:r>
            <a:r>
              <a:rPr b="1" lang="en-US" sz="3200" spc="-1" strike="noStrike">
                <a:solidFill>
                  <a:srgbClr val="4e0cf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4e0cf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9,7 р.</a:t>
            </a:r>
            <a:r>
              <a:rPr b="1" lang="en-US" sz="3200" spc="-1" strike="noStrike">
                <a:solidFill>
                  <a:srgbClr val="99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4e0cf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92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cc"/>
                </a:solidFill>
                <a:latin typeface="Comic Sans MS"/>
              </a:rPr>
              <a:t>Решение:</a:t>
            </a: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 245 + 245 * 0,06 = 245 +14,7 = =259,7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cc"/>
                </a:solidFill>
                <a:latin typeface="Comic Sans MS"/>
              </a:rPr>
              <a:t>Ответ:</a:t>
            </a:r>
            <a:r>
              <a:rPr b="0" lang="en-US" sz="3200" spc="-1" strike="noStrike">
                <a:solidFill>
                  <a:srgbClr val="6666cc"/>
                </a:solidFill>
                <a:latin typeface="Comic Sans MS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10803" b="0"/>
          <a:stretch/>
        </p:blipFill>
        <p:spPr>
          <a:xfrm>
            <a:off x="6012000" y="0"/>
            <a:ext cx="276228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2:43:10Z</dcterms:created>
  <dc:creator>школа</dc:creator>
  <dc:description/>
  <dc:language>en-US</dc:language>
  <cp:lastModifiedBy>школа</cp:lastModifiedBy>
  <dcterms:modified xsi:type="dcterms:W3CDTF">2011-01-28T11:41:47Z</dcterms:modified>
  <cp:revision>15</cp:revision>
  <dc:subject/>
  <dc:title>Слайд 1</dc:title>
</cp:coreProperties>
</file>